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24.wmf" ContentType="image/x-wmf"/>
  <Override PartName="/ppt/media/image22.wmf" ContentType="image/x-wmf"/>
  <Override PartName="/ppt/media/image19.png" ContentType="image/png"/>
  <Override PartName="/ppt/media/image13.jpeg" ContentType="image/jpeg"/>
  <Override PartName="/ppt/media/image23.png" ContentType="image/png"/>
  <Override PartName="/ppt/media/arrow.wav" ContentType="audio/x-wav"/>
  <Override PartName="/ppt/media/image9.wmf" ContentType="image/x-wmf"/>
  <Override PartName="/ppt/media/image14.png" ContentType="image/png"/>
  <Override PartName="/ppt/media/image25.jpeg" ContentType="image/jpeg"/>
  <Override PartName="/ppt/media/image2.png" ContentType="image/png"/>
  <Override PartName="/ppt/media/image4.jpeg" ContentType="image/jpeg"/>
  <Override PartName="/ppt/media/image10.wmf" ContentType="image/x-wmf"/>
  <Override PartName="/ppt/media/coin.wav" ContentType="audio/x-wav"/>
  <Override PartName="/ppt/media/image11.png" ContentType="image/png"/>
  <Override PartName="/ppt/media/image26.png" ContentType="image/png"/>
  <Override PartName="/ppt/media/image3.png" ContentType="image/png"/>
  <Override PartName="/ppt/media/image28.png" ContentType="image/png"/>
  <Override PartName="/ppt/media/image8.jpeg" ContentType="image/jpeg"/>
  <Override PartName="/ppt/media/image5.png" ContentType="image/png"/>
  <Override PartName="/ppt/media/image7.wmf" ContentType="image/x-wmf"/>
  <Override PartName="/ppt/media/image12.png" ContentType="image/png"/>
  <Override PartName="/ppt/media/image6.jpeg" ContentType="image/jpeg"/>
  <Override PartName="/ppt/media/image1.jpeg" ContentType="image/jpeg"/>
  <Override PartName="/ppt/media/image15.wmf" ContentType="image/x-wmf"/>
  <Override PartName="/ppt/media/image16.jpeg" ContentType="image/jpeg"/>
  <Override PartName="/ppt/media/image17.png" ContentType="image/png"/>
  <Override PartName="/ppt/media/image27.png" ContentType="image/png"/>
  <Override PartName="/ppt/media/drumroll.wav" ContentType="audio/x-wav"/>
  <Override PartName="/ppt/media/image18.jpeg" ContentType="image/jpeg"/>
  <Override PartName="/ppt/media/camera.wav" ContentType="audio/x-wav"/>
  <Override PartName="/ppt/media/image21.jpeg" ContentType="image/jpeg"/>
  <Override PartName="/ppt/media/image20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dt" idx="2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move the slide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 type="ftr" idx="2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 type="sldNum" idx="2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88CE6-9AF9-4B42-AB7F-F64126A901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7FECE-0A70-4AA7-BE3A-B35EA5D4BD2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5FCE7-0F27-4E2F-80F3-0C43AD624C7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5C7CB-EC13-4EAF-BD9F-6F2D2EF8CA3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90AF0-44E6-4482-91AB-340D3593C8F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96842-F84A-4BAD-BC1E-CF2E1338386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36056-4217-4776-854D-7E301EE7B6F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EA1B4-A6ED-48D0-B78B-697D10EF19F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62AB1-6A61-4063-AB82-669984159F4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38E4B-EBB5-451A-AC62-5AB67F73E62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318A9-021A-4704-B404-51C4972D2AF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B99FA-617D-4357-8E3F-7A731BCD4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69ABD-0A15-4CAF-B0AD-69F65EE44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79C57-3BA0-49C4-8B11-5BA1E7ECA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6371F-67E2-471B-8B85-48117666C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B6FF06-668C-45D7-BC6B-0775B13EB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81B625-902F-41C8-8F23-9BC61BE72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30E8EE-5C21-49EC-A19D-EBD14C73D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87B298-05AB-4465-880B-DEB5024AA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A157E1-0DD9-4AA8-B6BB-DEF14F56E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A697E6-C0E9-489F-B34C-86D17C1A1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7F9C98-C6F7-412F-B1D4-391A94DBF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E2CFD-3B49-464C-9F0E-9051D0BE2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AAA011-C607-43A0-B4F4-7828A5126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510239-BB1B-4656-B174-5731167FA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A00D32-B141-4EF6-A880-444F2634B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3D10B2-F8D3-4497-A768-73183C395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650ECF-0D82-4F7B-AB56-2818EA147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44E3B9-77FB-4C83-BCA8-5AD20DFFC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4310A9-61A1-4A9E-A599-E7D546DDA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E27B99-63FC-43D4-B3E1-1F8FF75E8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CB2BBC-DAD7-43D3-AC67-27A78D7AE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F1DC7C-43B5-450D-95D8-43239DD4F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47CE1-9628-4B47-81A9-06BC7D0C5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214CE2-2238-4770-8696-C03FAA807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1BC5CC-8C60-4CAA-8BCF-8F570D24F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973FE2-BBFF-419C-A224-4FA93AC36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14DF1D-9C0A-43E6-998E-58896C3DB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4D101F-02F8-4B4F-91EF-2643147C8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FC412C-6C13-4A5C-831C-35151783F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551525-C18E-4544-BE3C-C1E7B06D4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F53AA9B-81F6-4188-A3CA-FA33314C1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37D1BC3-1A07-491D-8200-CC021F01E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9D392EB-6522-4042-8C05-BA54832B0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2E389-A9C5-45C0-8072-9999FA68A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031D1EA-BCA1-4F14-935F-84132316E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7CB1BB0-5A1D-427A-BA8E-DC0F67A86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73A8093-BCF7-403F-95D7-90B2CB16D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4C8209D-311A-41E2-8C71-40AA81F74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F2DE362-D3C8-417E-94BA-077C17DDD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BB19CF7-F23F-4A3F-A2F7-CAA9C4D59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5BA5682-D6EE-43E3-BB20-B31F43B18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7B47582-2E6E-4DC5-AD0A-F2F11543B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3A186BF-378D-406E-8F4F-60C3F3866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C14A9ED-9137-4BFE-8DA1-5F5158997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3EC04-0482-4E4B-8771-2DBA5FCA8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875F90C-10CB-4CA5-BA3F-B2FBD2017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205D2A7-E32B-4A7E-9AA1-173DA3AE5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FFDFF9A-3AF1-438F-9169-A82EAA0A8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1004400-83AE-478A-8886-FBD7FFC28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B094470-FB60-48B9-A9F3-BDC32F825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D9A2DBD-74C7-4430-8DD5-1CE47A8F6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8C360D5-D088-48E7-A570-F25C95F91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B803F87-9137-4019-959B-E4824B135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CC0AE11-A744-4613-B655-7542F00E2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1D7C28E-3DA2-4C5B-8102-86DA5EEAA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776CB-C471-4638-AFC9-7AF3E502F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15ECA00-AD17-4D20-98DD-243D96CF4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FF9CD6F-F8C9-41BF-8535-A67BDFC51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6F41C38-F697-4F21-8C9C-78BE86252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86F1D8D-2935-49D0-9C68-3D819F531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02A7D29-09E1-400D-8EB7-D5077DECE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62D086F-0C86-4695-ACE1-AE90FCB65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987C3CD-71AC-4FD2-9228-7ECAE11DB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D53C248-EFE3-477B-B077-F387596E5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37BAE43-9C28-478A-A44D-FFE2D61E8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B28AD4A-B406-4D8F-9DD1-4E2D82971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E9511-8EC1-4C47-A641-8C13D4D00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98CA69C-F475-4052-88EB-A446505C5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46CA99E-B45C-4FE3-A33F-053988294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6C49DBE-BC8D-409E-B6EF-4623D609E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EA09E6-8452-4361-A514-291EA6C46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E9EAA8-84BB-4798-BA58-7304614D8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241D4C-DA93-4523-A323-AE98720D5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F84DE0-E6DE-4486-898B-21B602287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25339B-793A-429B-9BD0-128678E23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BA8358-4859-4940-BE71-E4E9D93E4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15E000-5DCD-46AF-BE24-51C4BB6A2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062A1-5274-47E6-A976-E9B475CE9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3185A5-D73B-45CF-BF4D-D8490BE78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B1E2CC-323A-412A-B39F-61F80CCFD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2AA852-9885-45B2-BA58-BDB359756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F8115A-6E50-4CB1-B068-F4C94C57F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278D65-44E1-438E-878B-A1BC505B4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6C10B6-0AD2-4EC6-8532-CCAD60356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645C4E-1518-4AAD-948C-DF02252C5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29EAED-26CD-4486-AD9D-ED4C330B1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5FF1F6-6965-48D6-A7F2-C91429DDF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272D68-7DA7-4A88-A5C6-08D16CEFF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16A1B-509F-4846-8118-7820F5572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9077F5-B86E-475E-A789-1EEBDF411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178DFF-3D0F-468C-B025-E4E5D279B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4D621F-C896-4E66-89A7-12126AEE7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A1907A-B1FE-4ED6-8054-0BAAC1A39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468A4B-B623-45F3-9E53-7EFC1B430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582C36-CD51-4739-9B14-4CE0E63DF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2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3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59EBAB-C6DB-4AA9-85E6-B0C66BBDA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4517C-D37B-4EAA-B213-462B9556D3DD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Straight Connector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Oval 10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BA9B5-9D29-4F94-A66D-D2FE5BEC8B2C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traight Connector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077F4-7E99-49AC-B2D5-D0B66F54C3CB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traight Connector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Straight Connector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116C9-C355-4B31-8024-EE50E1A76C89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14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4B46A-8F0B-47F2-A865-6ACF3DA02E6D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ftr" idx="15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sldNum" idx="17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F31E7-CBB0-47D7-8BEF-DDE889069E57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ftr" idx="1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6BA0E-C639-4710-8E80-1BA18E5DABBA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6086B-89A1-4378-B343-4A0914D79F5E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png"/><Relationship Id="rId3" Type="http://schemas.openxmlformats.org/officeDocument/2006/relationships/image" Target="../media/image24.wmf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audio" Target="../media/arrow.wav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wmf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85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8.jpeg"/><Relationship Id="rId3" Type="http://schemas.openxmlformats.org/officeDocument/2006/relationships/audio" Target="../media/coin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png"/><Relationship Id="rId3" Type="http://schemas.openxmlformats.org/officeDocument/2006/relationships/audio" Target="../media/coin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5.wmf"/><Relationship Id="rId4" Type="http://schemas.openxmlformats.org/officeDocument/2006/relationships/image" Target="../media/image16.jpeg"/><Relationship Id="rId5" Type="http://schemas.openxmlformats.org/officeDocument/2006/relationships/image" Target="../media/image17.png"/><Relationship Id="rId6" Type="http://schemas.openxmlformats.org/officeDocument/2006/relationships/audio" Target="../media/drumroll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370008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efac9"/>
                </a:solidFill>
                <a:latin typeface="Constantia"/>
              </a:rPr>
              <a:t>History 112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42" name="Rectangle 2" descr=""/>
          <p:cNvPicPr/>
          <p:nvPr/>
        </p:nvPicPr>
        <p:blipFill>
          <a:blip r:embed="rId1"/>
          <a:stretch/>
        </p:blipFill>
        <p:spPr>
          <a:xfrm>
            <a:off x="566640" y="2279520"/>
            <a:ext cx="8010720" cy="11588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  <p:sndAc>
      <p:stSnd>
        <p:snd r:embed="rId2" name="arrow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Picture 4" descr=""/>
          <p:cNvPicPr/>
          <p:nvPr/>
        </p:nvPicPr>
        <p:blipFill>
          <a:blip r:embed="rId1"/>
          <a:stretch/>
        </p:blipFill>
        <p:spPr>
          <a:xfrm>
            <a:off x="3352680" y="2139840"/>
            <a:ext cx="2438640" cy="3340080"/>
          </a:xfrm>
          <a:prstGeom prst="rect">
            <a:avLst/>
          </a:prstGeom>
          <a:ln w="0">
            <a:noFill/>
          </a:ln>
        </p:spPr>
      </p:pic>
      <p:pic>
        <p:nvPicPr>
          <p:cNvPr id="369" name="Rectangle 2" descr=""/>
          <p:cNvPicPr/>
          <p:nvPr/>
        </p:nvPicPr>
        <p:blipFill>
          <a:blip r:embed="rId2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5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9" descr="http://data2.collectionscanada.gc.ca/misc/txt/23v886k.jpg"/>
          <p:cNvPicPr/>
          <p:nvPr/>
        </p:nvPicPr>
        <p:blipFill>
          <a:blip r:embed="rId4"/>
          <a:stretch/>
        </p:blipFill>
        <p:spPr>
          <a:xfrm>
            <a:off x="0" y="-93600"/>
            <a:ext cx="9144000" cy="695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Picture 10" descr="http://upload.wikimedia.org/wikipedia/commons/8/80/Signature_of_Elizabeth_II.png"/>
          <p:cNvPicPr/>
          <p:nvPr/>
        </p:nvPicPr>
        <p:blipFill>
          <a:blip r:embed="rId1"/>
          <a:stretch/>
        </p:blipFill>
        <p:spPr>
          <a:xfrm>
            <a:off x="457200" y="1725480"/>
            <a:ext cx="8229600" cy="4168800"/>
          </a:xfrm>
          <a:prstGeom prst="rect">
            <a:avLst/>
          </a:prstGeom>
          <a:ln w="0">
            <a:noFill/>
          </a:ln>
        </p:spPr>
      </p:pic>
      <p:pic>
        <p:nvPicPr>
          <p:cNvPr id="373" name="Rectangle 2" descr=""/>
          <p:cNvPicPr/>
          <p:nvPr/>
        </p:nvPicPr>
        <p:blipFill>
          <a:blip r:embed="rId2"/>
          <a:stretch/>
        </p:blipFill>
        <p:spPr>
          <a:xfrm>
            <a:off x="219240" y="146160"/>
            <a:ext cx="851040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What does Sovereign mean?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Who should be Sovereign? 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What does it say about us that we are a constitutional monarchy?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Why do we persist with medieval symbols on our coins? 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75" name="Rectangle 2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Rectangle 2" descr=""/>
          <p:cNvPicPr/>
          <p:nvPr/>
        </p:nvPicPr>
        <p:blipFill>
          <a:blip r:embed="rId1"/>
          <a:stretch/>
        </p:blipFill>
        <p:spPr>
          <a:xfrm>
            <a:off x="450720" y="603360"/>
            <a:ext cx="8016840" cy="115884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15" descr="http://lefteyeonthemedia.files.wordpress.com/2008/10/sun-king.jpg"/>
          <p:cNvPicPr/>
          <p:nvPr/>
        </p:nvPicPr>
        <p:blipFill>
          <a:blip r:embed="rId2"/>
          <a:stretch/>
        </p:blipFill>
        <p:spPr>
          <a:xfrm>
            <a:off x="0" y="1905120"/>
            <a:ext cx="4633920" cy="4267080"/>
          </a:xfrm>
          <a:prstGeom prst="rect">
            <a:avLst/>
          </a:prstGeom>
          <a:ln w="0">
            <a:noFill/>
          </a:ln>
        </p:spPr>
      </p:pic>
      <p:sp>
        <p:nvSpPr>
          <p:cNvPr id="345" name="PlaceHolder 1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Head of State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Head of Government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Constitution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slow">
    <p:wipe dir="r"/>
    <p:sndAc>
      <p:stSnd>
        <p:snd r:embed="rId3" name="arrow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Rectangle 2" descr=""/>
          <p:cNvPicPr/>
          <p:nvPr/>
        </p:nvPicPr>
        <p:blipFill>
          <a:blip r:embed="rId1"/>
          <a:stretch/>
        </p:blipFill>
        <p:spPr>
          <a:xfrm>
            <a:off x="450720" y="603360"/>
            <a:ext cx="8016840" cy="1158840"/>
          </a:xfrm>
          <a:prstGeom prst="rect">
            <a:avLst/>
          </a:prstGeom>
          <a:ln w="0">
            <a:noFill/>
          </a:ln>
        </p:spPr>
      </p:pic>
      <p:sp>
        <p:nvSpPr>
          <p:cNvPr id="347" name="PlaceHolder 1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Do you see anything on common with these coins? 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Elizabeth II, 1967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Edward III, 1327-61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48" name="Picture 9" descr="http://image.ohozaa.com/im/c16_resize.jpg"/>
          <p:cNvPicPr/>
          <p:nvPr/>
        </p:nvPicPr>
        <p:blipFill>
          <a:blip r:embed="rId2"/>
          <a:stretch/>
        </p:blipFill>
        <p:spPr>
          <a:xfrm>
            <a:off x="4572000" y="2743200"/>
            <a:ext cx="3809880" cy="188136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7" descr=""/>
          <p:cNvPicPr/>
          <p:nvPr/>
        </p:nvPicPr>
        <p:blipFill>
          <a:blip r:embed="rId3"/>
          <a:stretch/>
        </p:blipFill>
        <p:spPr>
          <a:xfrm>
            <a:off x="5105520" y="5105520"/>
            <a:ext cx="3174840" cy="157464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11" descr="http://www.ukcoinpics.co.uk/hamm/ed3/4d/713.jpg"/>
          <p:cNvPicPr/>
          <p:nvPr/>
        </p:nvPicPr>
        <p:blipFill>
          <a:blip r:embed="rId4"/>
          <a:stretch/>
        </p:blipFill>
        <p:spPr>
          <a:xfrm>
            <a:off x="4724280" y="4648320"/>
            <a:ext cx="3457800" cy="170640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Picture 5" descr=""/>
          <p:cNvPicPr/>
          <p:nvPr/>
        </p:nvPicPr>
        <p:blipFill>
          <a:blip r:embed="rId1"/>
          <a:stretch/>
        </p:blipFill>
        <p:spPr>
          <a:xfrm>
            <a:off x="0" y="533520"/>
            <a:ext cx="9524880" cy="443232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7" descr="http://www.ukcoinpics.co.uk/hamm/ed3/4d/713.jpg"/>
          <p:cNvPicPr/>
          <p:nvPr/>
        </p:nvPicPr>
        <p:blipFill>
          <a:blip r:embed="rId2"/>
          <a:stretch/>
        </p:blipFill>
        <p:spPr>
          <a:xfrm>
            <a:off x="-60480" y="533520"/>
            <a:ext cx="9204480" cy="454320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  <p:sndAc>
      <p:stSnd>
        <p:snd r:embed="rId3" name="coin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Picture 2" descr=""/>
          <p:cNvPicPr/>
          <p:nvPr/>
        </p:nvPicPr>
        <p:blipFill>
          <a:blip r:embed="rId1"/>
          <a:stretch/>
        </p:blipFill>
        <p:spPr>
          <a:xfrm>
            <a:off x="0" y="685800"/>
            <a:ext cx="9144000" cy="4711680"/>
          </a:xfrm>
          <a:prstGeom prst="rect">
            <a:avLst/>
          </a:prstGeom>
          <a:ln w="0">
            <a:noFill/>
          </a:ln>
        </p:spPr>
      </p:pic>
      <p:sp>
        <p:nvSpPr>
          <p:cNvPr id="354" name="Text Box 3"/>
          <p:cNvSpPr/>
          <p:nvPr/>
        </p:nvSpPr>
        <p:spPr>
          <a:xfrm>
            <a:off x="457200" y="5334120"/>
            <a:ext cx="82296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lizabeth I, 156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LIZABETH : D.' G.' ANG.' FR.' ET . HI.' REGI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VI-DEV . AD_IVTORE_M : MEV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5" name="Picture 5" descr="http://www.spink.com/images/collectables/collectcoins/7.gif"/>
          <p:cNvPicPr/>
          <p:nvPr/>
        </p:nvPicPr>
        <p:blipFill>
          <a:blip r:embed="rId2"/>
          <a:stretch/>
        </p:blipFill>
        <p:spPr>
          <a:xfrm>
            <a:off x="0" y="628560"/>
            <a:ext cx="9144000" cy="457200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  <p:sndAc>
      <p:stSnd>
        <p:snd r:embed="rId3" name="coin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In your desk groups, try to figure out what the slogan on the coins mean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57" name="Rectangle 2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Picture 10" descr="http://faculty.ucc.edu/egh-damerow/Louis_XIV.jpg"/>
          <p:cNvPicPr/>
          <p:nvPr/>
        </p:nvPicPr>
        <p:blipFill>
          <a:blip r:embed="rId1"/>
          <a:stretch/>
        </p:blipFill>
        <p:spPr>
          <a:xfrm>
            <a:off x="0" y="1468440"/>
            <a:ext cx="3352680" cy="5389560"/>
          </a:xfrm>
          <a:prstGeom prst="rect">
            <a:avLst/>
          </a:prstGeom>
          <a:ln w="0">
            <a:noFill/>
          </a:ln>
        </p:spPr>
      </p:pic>
      <p:pic>
        <p:nvPicPr>
          <p:cNvPr id="359" name="Rectangle 2" descr=""/>
          <p:cNvPicPr/>
          <p:nvPr/>
        </p:nvPicPr>
        <p:blipFill>
          <a:blip r:embed="rId2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8" descr=""/>
          <p:cNvPicPr/>
          <p:nvPr/>
        </p:nvPicPr>
        <p:blipFill>
          <a:blip r:embed="rId3"/>
          <a:stretch/>
        </p:blipFill>
        <p:spPr>
          <a:xfrm>
            <a:off x="4495680" y="1447920"/>
            <a:ext cx="4648320" cy="234144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12" descr="http://upload.wikimedia.org/wikipedia/commons/3/30/Louis_XIV_Coin.jpg"/>
          <p:cNvPicPr/>
          <p:nvPr/>
        </p:nvPicPr>
        <p:blipFill>
          <a:blip r:embed="rId4"/>
          <a:stretch/>
        </p:blipFill>
        <p:spPr>
          <a:xfrm>
            <a:off x="3581280" y="1600200"/>
            <a:ext cx="5173920" cy="261468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14" descr="http://upload.wikimedia.org/wikipedia/commons/3/39/Louis_XIV_Signature.png"/>
          <p:cNvPicPr/>
          <p:nvPr/>
        </p:nvPicPr>
        <p:blipFill>
          <a:blip r:embed="rId5"/>
          <a:stretch/>
        </p:blipFill>
        <p:spPr>
          <a:xfrm>
            <a:off x="4343400" y="4389480"/>
            <a:ext cx="3728880" cy="2468520"/>
          </a:xfrm>
          <a:prstGeom prst="rect">
            <a:avLst/>
          </a:prstGeom>
          <a:ln w="0">
            <a:noFill/>
          </a:ln>
        </p:spPr>
      </p:pic>
    </p:spTree>
  </p:cSld>
  <p:transition spd="slow">
    <p:circle/>
    <p:sndAc>
      <p:stSnd>
        <p:snd r:embed="rId6" name="drumroll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7" descr="http://www.artunframed.com/images/new_art4/Louis_XIV_and_Moliere.jpg"/>
          <p:cNvPicPr/>
          <p:nvPr/>
        </p:nvPicPr>
        <p:blipFill>
          <a:blip r:embed="rId1"/>
          <a:stretch/>
        </p:blipFill>
        <p:spPr>
          <a:xfrm>
            <a:off x="457200" y="1398600"/>
            <a:ext cx="8229600" cy="4822920"/>
          </a:xfrm>
          <a:prstGeom prst="rect">
            <a:avLst/>
          </a:prstGeom>
          <a:ln w="0">
            <a:noFill/>
          </a:ln>
        </p:spPr>
      </p:pic>
      <p:pic>
        <p:nvPicPr>
          <p:cNvPr id="364" name="Rectangle 2" descr=""/>
          <p:cNvPicPr/>
          <p:nvPr/>
        </p:nvPicPr>
        <p:blipFill>
          <a:blip r:embed="rId2"/>
          <a:stretch/>
        </p:blipFill>
        <p:spPr>
          <a:xfrm>
            <a:off x="237960" y="146160"/>
            <a:ext cx="8455320" cy="12319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  <p:sndAc>
      <p:stSnd>
        <p:snd r:embed="rId3" name="camera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Rectangle 2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  <p:sp>
        <p:nvSpPr>
          <p:cNvPr id="366" name="TextBox 6"/>
          <p:cNvSpPr/>
          <p:nvPr/>
        </p:nvSpPr>
        <p:spPr>
          <a:xfrm>
            <a:off x="5562720" y="2057400"/>
            <a:ext cx="3200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What do you see in this image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7" name="Picture 8" descr="http://www.executedtoday.com/images/Hobbes_Leviathan_big.jpg"/>
          <p:cNvPicPr/>
          <p:nvPr/>
        </p:nvPicPr>
        <p:blipFill>
          <a:blip r:embed="rId2"/>
          <a:stretch/>
        </p:blipFill>
        <p:spPr>
          <a:xfrm>
            <a:off x="304920" y="1371600"/>
            <a:ext cx="524016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3T00:03:26Z</dcterms:created>
  <dc:creator>Greg Peters</dc:creator>
  <dc:description/>
  <dc:language>en-US</dc:language>
  <cp:lastModifiedBy>ED18</cp:lastModifiedBy>
  <dcterms:modified xsi:type="dcterms:W3CDTF">2010-09-13T11:56:55Z</dcterms:modified>
  <cp:revision>6</cp:revision>
  <dc:subject/>
  <dc:title>Absolutism and Government</dc:title>
</cp:coreProperties>
</file>